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4F9-0C4F-4906-8FD0-492AC531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FB5-E4EA-407C-BD95-C3419867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39BEDC-2FEA-478F-9687-BA1EA73D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0ECD85-C398-4216-B8F0-B146941E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68FD2F-1A17-4653-92B9-3D2319FD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07CDD1-1336-4261-9DD2-9782402D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FC3FC6-60B5-4509-9BF3-C929416D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5950F0-1385-4445-8E9A-46B78587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FC7EAD-13BD-4554-B8E4-3385AC78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C1BE7D-C836-4549-B3BA-C165FBF5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B74C19-B310-472D-B824-8D3B9D37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C1FF5-9DB8-4287-8E80-1239B644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038-373B-44BB-B4CB-CE03D47D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E0992-937B-413E-90B2-C0802CBB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934CC-19F6-40EA-A919-81D2C170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04D72-54F9-4AE0-A0B8-8B82DD5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144A3-CE7A-4CF8-89E5-5ADC41DC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E4F55-F111-43D2-B2AE-A33B3B19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EE222-A48E-4598-B7D1-691883C2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9F913-7610-4BC5-8768-4459EA41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8FDE9-0FB6-4D3F-9D4D-3CB0DC79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03A55-2095-4729-BB4A-E3583A81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04E39-76BB-4611-8546-0EA68048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5F1-3A6D-4F6F-8720-E46740CD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03E9B-19D2-43CF-A2BD-84E4AE86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D9EB2-22AB-4CE3-836C-D6B7069C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DE5C5-2D6B-4602-A08F-A69BB880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1BAC-3EF2-4238-8CCE-4B5AF442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4903F-377E-498B-9130-60207581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16D7-F43A-4A0D-8214-D04C9AF7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9460B-D6E2-4311-BFD6-C8FE60FB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9E4AE-C56A-453B-B9BB-540AF2B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B682A-5707-44B6-AEA7-F189DAFD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F0E27-B241-4446-B533-ABA35AC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6B49C-5306-4300-9D3B-B9273E23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ABB97-1FF2-40F0-856D-ECF41E7B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FC2CE-CC75-4DA7-8D12-25EDBDB5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FB850-CE06-4862-AE35-6B7DD886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E568A-1F37-4E02-87EB-F11390B0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34F0F-62F1-4C38-BF81-26B2CE8A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0D9C8-8321-4BA4-AD95-69228FFC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CD41D-BF03-486F-9927-1E620A40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2E433-66FC-455D-8468-1E20772B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8F198-4A18-4268-A412-13421D3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CF7-28CD-40E4-97EC-ADFA515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E46A8-EF1C-44D6-8DBA-5EBE88E1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5345D-11C0-4934-8B21-1C3CD181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8803F-CFE7-4AF3-BFE8-DEA74502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EFF46-4446-47D3-9F4E-613E27BE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D9BC8-131E-422C-9AEC-1DAFACBC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21DE-AF4E-462D-822C-E26C8F10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FDFB-400E-41BB-8D07-FC53E9C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CB92-F69A-4397-B7D6-E650F5D7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3509-4FE4-412D-A2A3-B5BC0879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B37B-C273-4292-8853-CA4DEA6C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17B-7D52-4160-B4F6-6B320EF7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7231-FAA2-48F4-8EE1-74640B95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C0EC-FB69-4C92-B2AE-977E58E6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FCC8-A171-41BC-9B7F-99E8D25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D64B-0850-43E1-BFFE-E5AA3BC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E6C7-91D4-42E9-AFA1-69D3ACAF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BFA9-0405-478C-A423-DF6C6689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FB141-8CEF-4853-B916-D47D9A84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83B04-FB12-412D-8590-79A22B18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2C46F-22E9-42AA-A8F2-3953D87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01F3E-DBE3-47B7-BD23-9315308A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B38-5D61-4E7D-BB27-7496E881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4A6C5-82A0-4CEC-BB44-5161F1BA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383B2-52A9-4F56-8454-22126559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680E4-F9DC-480D-8FCB-A5625C95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B2340-30A2-4EEB-BC14-18EE197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E9F6B-B6A9-4BEE-B9A0-69F2B730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38849-27A6-4DCC-ADAF-268B8400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72298-A556-4FB4-9583-631BA74C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D2A98-71D8-4E76-8ED7-3ABAB95A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EF782-03BF-4E87-8B1A-BE76AA5B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EA6A-B7AD-4D23-B83A-625BB4A6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2D4-5F60-4324-A03B-3FA1495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13F0-6AE8-49A0-B6B6-14ADEBD2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E3A46-8C5B-4051-A1BC-E4268381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2220A-CF27-4534-8C79-3BCA02D9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DFA4E-7A87-4330-86C9-0A4E7BAE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FC795-9AC4-443F-BA9D-1E4D488C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57FC-BE64-430D-A97C-E8EC893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E115-9E9D-46E9-8345-8931794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AC77F-8890-4EA8-A640-C8F9EFD4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72C8-3116-4C26-8B0C-92C13FD3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A147E-96E4-499E-AAF2-603ED2D6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33A-A157-434F-A0F5-E26FD8C4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039B9-1D5F-47D5-82A8-88ED68FF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8530D-44E1-4B93-BA3D-70BD634D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0255B-2227-45E2-86FA-D844E78C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B0B0-CCCC-48F7-B4EF-D3BAE8EC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6E32F-C63F-44F2-8C02-256FFC68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8A8D5-C6F7-4DFD-A829-C1F83B7E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46B1A-5A24-4FA5-AA1E-8FA31FF1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80D02-0CA9-4213-A5AC-89BA019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24CD-EAC5-4EF1-9386-DB1DA88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0EA01-5681-4324-A58D-C6F81BEC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5D7-0005-4790-A9D9-32758179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F2AF0-D4AB-4D7A-A452-63C83F42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6AE74-76EC-4A49-8B29-31B7298E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5598-47BE-42A9-9F36-541E4C7A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EED38-E8B3-4EFE-A19D-BBC6C504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240A-1E7A-42E9-B14F-7D946A3A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94849-5C96-4FB5-80B4-8BC68D5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CA595-EE04-416B-953B-4AFCE78A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5CC40-C8DC-4DC9-9807-636AF6D4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84ABE-8617-4F7D-B2F1-5F4F9BED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F6ED-6673-4E57-B026-50E5947C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F3A-5A97-4C6E-95AA-60BA33E9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7CC0-8727-4C2F-8AD2-B69A20B8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6E2A-9321-420F-960D-1807DC6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C00CC-44EC-4A09-8F74-6B08FB4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D4191-77C9-4416-99EB-B2F1634F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8C8A0-CB5F-47AC-BD7B-6D8D9DA3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EF543-C4E7-47DF-97E3-765D7946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5806BD-A2DB-41B5-AB95-626B4C07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BD341C-6B7F-4BC8-B2B3-79EF5C27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E86344-5839-4615-B0E8-07C43A31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65C6E-4B02-4ED6-8733-282634E7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900-B808-46E2-800E-C300BD8F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4F2BE5-82C6-4F60-83A6-7C234833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583FD0-4517-4890-AA91-EDBD3BCB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1978C-3459-47AD-A168-CE28E948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5388C-2543-47D8-9F99-8B61EA21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B30F11-79D1-414A-BF0B-5FF151DE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4A6544-676B-4775-9FD1-D547E558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142BA1-C921-47B5-BA0D-0FA3BABB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A0622D-767C-4442-BB29-EC08D2A7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9FC8AB-30BC-4E20-85D1-39E98D7C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08B50-C6A7-4047-9E96-F964DC9D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2E2-D277-4CE2-9F89-1EDE3E47B8FA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5497-AA0F-4E44-99D9-52D0C6A074C0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8431-84E9-40E2-88B6-2F2BEA5F444A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888C-1C75-488A-8D4C-AB93532E018F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8ABC-1171-407B-9050-0B507808C030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6520-77BE-4A51-9A88-9A9CD0243C34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6D04-9164-4E82-986E-01292D88FB96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0223-382B-4BF9-B185-D952FA3BA172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5096-1399-44C4-AB40-180FDC4945CF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2da2bf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E94E-F3B9-48D5-B5E2-9819B9D2DCB4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242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424242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da1f28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8f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8fc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6DD-730B-4B8A-86C7-5F42BC5D26AD}" type="slidenum">
              <a:rPr b="0" lang="en-US" sz="16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By: Savanah Boe, Jade Marlowe and Reid Beatty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Occurred in July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Flooding of the Kansas River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$935 of damage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28 lives lost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289400" cy="3316320"/>
          </a:xfrm>
          <a:prstGeom prst="rect">
            <a:avLst/>
          </a:prstGeom>
          <a:ln w="0">
            <a:noFill/>
          </a:ln>
        </p:spPr>
      </p:pic>
      <p:pic>
        <p:nvPicPr>
          <p:cNvPr id="519" name="great flood of 51.wav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3460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ormed August 30, 1950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Ended September 12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Winds of up to 185mph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19 death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Damaged Leeward Island and Antigua the mos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246560" cy="28954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"/>
          <p:cNvSpPr/>
          <p:nvPr/>
        </p:nvSpPr>
        <p:spPr>
          <a:xfrm>
            <a:off x="4572000" y="44197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of Hurricane D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hurricane dog.wav" descr=""/>
          <p:cNvPicPr/>
          <p:nvPr/>
        </p:nvPicPr>
        <p:blipFill>
          <a:blip r:embed="rId3"/>
          <a:stretch/>
        </p:blipFill>
        <p:spPr>
          <a:xfrm>
            <a:off x="30481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6769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Rockwell"/>
              </a:rPr>
              <a:t>F5 hit Flint, Michigan on June 8, 1953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Rockwell"/>
              </a:rPr>
              <a:t>F4 hit Worcester, Massachusetts on June 9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Rockwell"/>
              </a:rPr>
              <a:t>Thought to be a result of atomic bomb testing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Rockwell"/>
              </a:rPr>
              <a:t>243 fatalities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Rockwell"/>
              </a:rPr>
              <a:t>$2.5 billion in damage in today's money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67120" cy="2590920"/>
          </a:xfrm>
          <a:prstGeom prst="rect">
            <a:avLst/>
          </a:prstGeom>
          <a:ln w="0">
            <a:noFill/>
          </a:ln>
        </p:spPr>
      </p:pic>
      <p:pic>
        <p:nvPicPr>
          <p:cNvPr id="528" name="flint worcester tornadoes.wav" descr=""/>
          <p:cNvPicPr/>
          <p:nvPr/>
        </p:nvPicPr>
        <p:blipFill>
          <a:blip r:embed="rId3"/>
          <a:stretch/>
        </p:blipFill>
        <p:spPr>
          <a:xfrm>
            <a:off x="3809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9958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It hit August 17, 1955 on Carolina Beach, North Carolina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Estimated 200 death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Diane was the first billion-dollar storm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ategory 1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86" name="Content Placeholder 6" descr="Hurricane Diane pic..png"/>
          <p:cNvPicPr/>
          <p:nvPr/>
        </p:nvPicPr>
        <p:blipFill>
          <a:blip r:embed="rId2"/>
          <a:stretch/>
        </p:blipFill>
        <p:spPr>
          <a:xfrm>
            <a:off x="4572000" y="1905120"/>
            <a:ext cx="4114800" cy="30938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29" descr=""/>
          <p:cNvPicPr/>
          <p:nvPr/>
        </p:nvPicPr>
        <p:blipFill>
          <a:blip r:embed="rId3"/>
          <a:stretch/>
        </p:blipFill>
        <p:spPr>
          <a:xfrm>
            <a:off x="33526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It hit Fargo, North Dakota on June 20, 1957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10 casualtie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9 miles long and up to 700 feet wide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5 Tornado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90" name="Content Placeholder 4" descr="Fargo Tornado pic..jpg"/>
          <p:cNvPicPr/>
          <p:nvPr/>
        </p:nvPicPr>
        <p:blipFill>
          <a:blip r:embed="rId2"/>
          <a:stretch/>
        </p:blipFill>
        <p:spPr>
          <a:xfrm>
            <a:off x="4419720" y="2209680"/>
            <a:ext cx="4305240" cy="2743200"/>
          </a:xfrm>
          <a:prstGeom prst="rect">
            <a:avLst/>
          </a:prstGeom>
          <a:ln w="0">
            <a:noFill/>
          </a:ln>
        </p:spPr>
      </p:pic>
      <p:pic>
        <p:nvPicPr>
          <p:cNvPr id="491" name="Fargo Tornado Recording.wav" descr=""/>
          <p:cNvPicPr/>
          <p:nvPr/>
        </p:nvPicPr>
        <p:blipFill>
          <a:blip r:embed="rId3"/>
          <a:stretch/>
        </p:blipFill>
        <p:spPr>
          <a:xfrm>
            <a:off x="33526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pring of 1950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5 deaths recorded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looded the Winnipeg water basin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Largest flood that had occurred in several decades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94" name="Content Placeholder 4" descr="Red River Flood pic..jpg"/>
          <p:cNvPicPr/>
          <p:nvPr/>
        </p:nvPicPr>
        <p:blipFill>
          <a:blip r:embed="rId2"/>
          <a:stretch/>
        </p:blipFill>
        <p:spPr>
          <a:xfrm>
            <a:off x="4572000" y="1676520"/>
            <a:ext cx="3859200" cy="3809880"/>
          </a:xfrm>
          <a:prstGeom prst="rect">
            <a:avLst/>
          </a:prstGeom>
          <a:ln w="0">
            <a:noFill/>
          </a:ln>
        </p:spPr>
      </p:pic>
      <p:pic>
        <p:nvPicPr>
          <p:cNvPr id="495" name="Red River Flood recording.wav" descr=""/>
          <p:cNvPicPr/>
          <p:nvPr/>
        </p:nvPicPr>
        <p:blipFill>
          <a:blip r:embed="rId3"/>
          <a:stretch/>
        </p:blipFill>
        <p:spPr>
          <a:xfrm>
            <a:off x="31240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It hit Hartington and Bloomfield, Nebraska on November 18, 1949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No fatality's found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Winds of 50-70 miles per hour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24 inches of snow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98" name="Content Placeholder 4" descr="Nebraska Blizzard pic..jpg"/>
          <p:cNvPicPr/>
          <p:nvPr/>
        </p:nvPicPr>
        <p:blipFill>
          <a:blip r:embed="rId2"/>
          <a:stretch/>
        </p:blipFill>
        <p:spPr>
          <a:xfrm>
            <a:off x="5334120" y="1752480"/>
            <a:ext cx="2590560" cy="3754440"/>
          </a:xfrm>
          <a:prstGeom prst="rect">
            <a:avLst/>
          </a:prstGeom>
          <a:ln w="0">
            <a:noFill/>
          </a:ln>
        </p:spPr>
      </p:pic>
      <p:pic>
        <p:nvPicPr>
          <p:cNvPr id="499" name="Nebraska Blizzard Recording.wav" descr=""/>
          <p:cNvPicPr/>
          <p:nvPr/>
        </p:nvPicPr>
        <p:blipFill>
          <a:blip r:embed="rId3"/>
          <a:stretch/>
        </p:blipFill>
        <p:spPr>
          <a:xfrm>
            <a:off x="35053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102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41000" cy="1163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31" descr="http://upload.wikimedia.org/wikipedia/commons/thumb/4/47/19501126sfc.gif/240px-19501126sfc.gif"/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36864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Lasted from November 24-27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Heavy rains and wind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1,000,000 went without power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torm hit 22 state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353 deaths were recorded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03" name="great appalachian storms.wav" descr=""/>
          <p:cNvPicPr/>
          <p:nvPr/>
        </p:nvPicPr>
        <p:blipFill>
          <a:blip r:embed="rId3"/>
          <a:stretch/>
        </p:blipFill>
        <p:spPr>
          <a:xfrm>
            <a:off x="41911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Rectangle 102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41000" cy="11638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Lasted from June 1-23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Heard 15 miles away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3 hours to spread to the ocean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Biggest and most active volcano in the world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06" name="Picture 1031" descr="http://www.nps.gov/history/history/online_books/hawaii-notes/vol4-2-7p3.jpg"/>
          <p:cNvPicPr/>
          <p:nvPr/>
        </p:nvPicPr>
        <p:blipFill>
          <a:blip r:embed="rId2"/>
          <a:stretch/>
        </p:blipFill>
        <p:spPr>
          <a:xfrm>
            <a:off x="4648320" y="1828800"/>
            <a:ext cx="4038480" cy="3203640"/>
          </a:xfrm>
          <a:prstGeom prst="rect">
            <a:avLst/>
          </a:prstGeom>
          <a:ln w="0">
            <a:noFill/>
          </a:ln>
        </p:spPr>
      </p:pic>
      <p:pic>
        <p:nvPicPr>
          <p:cNvPr id="507" name="mauna loa volcano.wav" descr=""/>
          <p:cNvPicPr/>
          <p:nvPr/>
        </p:nvPicPr>
        <p:blipFill>
          <a:blip r:embed="rId3"/>
          <a:stretch/>
        </p:blipFill>
        <p:spPr>
          <a:xfrm>
            <a:off x="26668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102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41000" cy="1163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31" descr="http://www.erh.noaa.gov/nerfc/historical/aug55.jpg"/>
          <p:cNvPicPr/>
          <p:nvPr/>
        </p:nvPicPr>
        <p:blipFill>
          <a:blip r:embed="rId2"/>
          <a:stretch/>
        </p:blipFill>
        <p:spPr>
          <a:xfrm>
            <a:off x="380880" y="175248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looding caused by hurricane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Water flow into eastern U.S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180 people killed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$680 million dollars in damage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11" name="connie and diane flooding.wav" descr=""/>
          <p:cNvPicPr/>
          <p:nvPr/>
        </p:nvPicPr>
        <p:blipFill>
          <a:blip r:embed="rId3"/>
          <a:stretch/>
        </p:blipFill>
        <p:spPr>
          <a:xfrm>
            <a:off x="37339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102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41000" cy="11638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irst hurricane of the 1957 season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Hit eastern Texas western Louisiana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Reported winds up to 100mph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2da2bf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Ranked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Rockwel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deadliest storm to hit the U.S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14" name="Picture 1031" descr="http://upload.wikimedia.org/wikipedia/commons/e/ec/Audrey_before_landfall.gif"/>
          <p:cNvPicPr/>
          <p:nvPr/>
        </p:nvPicPr>
        <p:blipFill>
          <a:blip r:embed="rId2"/>
          <a:stretch/>
        </p:blipFill>
        <p:spPr>
          <a:xfrm>
            <a:off x="4648320" y="2035080"/>
            <a:ext cx="4038480" cy="3656160"/>
          </a:xfrm>
          <a:prstGeom prst="rect">
            <a:avLst/>
          </a:prstGeom>
          <a:ln w="0">
            <a:noFill/>
          </a:ln>
        </p:spPr>
      </p:pic>
      <p:pic>
        <p:nvPicPr>
          <p:cNvPr id="515" name="hurricane audrey.wav" descr=""/>
          <p:cNvPicPr/>
          <p:nvPr/>
        </p:nvPicPr>
        <p:blipFill>
          <a:blip r:embed="rId3"/>
          <a:stretch/>
        </p:blipFill>
        <p:spPr>
          <a:xfrm>
            <a:off x="27432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670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7:05:36Z</dcterms:created>
  <dc:creator>asdfg</dc:creator>
  <dc:description/>
  <dc:language>en-US</dc:language>
  <cp:lastModifiedBy>asdfg</cp:lastModifiedBy>
  <dcterms:modified xsi:type="dcterms:W3CDTF">2010-05-21T18:26:26Z</dcterms:modified>
  <cp:revision>30</cp:revision>
  <dc:subject/>
  <dc:title>Natural Disasters</dc:title>
</cp:coreProperties>
</file>